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6D41-977B-4E76-9DA2-E0EB8284C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50E6-4F50-4624-A3A9-6B524EC2E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7BD3-407D-4CAD-81AB-1A5FD351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208-27FF-461D-B53B-440E0311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EAB-CCEA-4F1F-BD61-AFCBC259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480-9455-4955-BA1F-2AF4ECA1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59F-B0FD-46C0-9CF1-0357E9C1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40D-2A5D-4651-AAF0-8727A3A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709-0829-44BB-9EEC-93CF6262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C8C-51DC-416F-B5CB-41F66AB9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03B-CC9F-4454-93A2-2AC2D1A4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B92-0B10-4DAA-8523-2AD7355F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7A1-AB9D-4947-95C7-9A7EB4F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03A-12DB-4317-8E27-F165CB8D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91B-59A7-439B-B32D-9702F00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5DCB-2A62-42AE-A7B7-A93E18B56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6 Multiplying a Polynomial by a Monom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Polynomial by a Mo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with one term is called a monomia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ltiply the term outside the parentheses by every term inside the parenth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Polynomial by a Mo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37124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27432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a + b –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2743200"/>
            <a:ext cx="1752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95480" y="43434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2a + 2b + 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95480" y="54100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2a + 2b </a:t>
            </a:r>
            <a:r>
              <a:rPr b="0" lang="en-US" sz="3200" spc="-1" strike="noStrike">
                <a:solidFill>
                  <a:srgbClr val="80008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609480" y="1905120"/>
            <a:ext cx="4800600" cy="1003320"/>
            <a:chOff x="609480" y="1905120"/>
            <a:chExt cx="4800600" cy="1003320"/>
          </a:xfrm>
        </p:grpSpPr>
        <p:sp>
          <p:nvSpPr>
            <p:cNvPr id="58" name="Freeform 12"/>
            <p:cNvSpPr/>
            <p:nvPr/>
          </p:nvSpPr>
          <p:spPr>
            <a:xfrm>
              <a:off x="609480" y="2337120"/>
              <a:ext cx="1219320" cy="495360"/>
            </a:xfrm>
            <a:prstGeom prst="pie">
              <a:avLst/>
            </a:prstGeom>
            <a:noFill/>
            <a:ln w="19080">
              <a:solidFill>
                <a:srgbClr val="00ff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1219320" y="1905120"/>
              <a:ext cx="4190760" cy="1003320"/>
            </a:xfrm>
            <a:prstGeom prst="pie">
              <a:avLst/>
            </a:prstGeom>
            <a:noFill/>
            <a:ln w="19080">
              <a:solidFill>
                <a:srgbClr val="00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914400" y="2209680"/>
            <a:ext cx="2971800" cy="711360"/>
            <a:chOff x="914400" y="2209680"/>
            <a:chExt cx="2971800" cy="711360"/>
          </a:xfrm>
        </p:grpSpPr>
        <p:sp>
          <p:nvSpPr>
            <p:cNvPr id="61" name="Freeform 16"/>
            <p:cNvSpPr/>
            <p:nvPr/>
          </p:nvSpPr>
          <p:spPr>
            <a:xfrm>
              <a:off x="914400" y="2514600"/>
              <a:ext cx="469800" cy="393840"/>
            </a:xfrm>
            <a:prstGeom prst="pie">
              <a:avLst/>
            </a:prstGeom>
            <a:noFill/>
            <a:ln w="19080">
              <a:solidFill>
                <a:srgbClr val="ff00ff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295280" y="2209680"/>
              <a:ext cx="2590920" cy="711360"/>
            </a:xfrm>
            <a:prstGeom prst="pie">
              <a:avLst/>
            </a:prstGeom>
            <a:noFill/>
            <a:ln w="19080">
              <a:solidFill>
                <a:srgbClr val="ff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26"/>
          <p:cNvGrpSpPr/>
          <p:nvPr/>
        </p:nvGrpSpPr>
        <p:grpSpPr>
          <a:xfrm>
            <a:off x="444600" y="3124080"/>
            <a:ext cx="6642000" cy="1130400"/>
            <a:chOff x="444600" y="3124080"/>
            <a:chExt cx="6642000" cy="1130400"/>
          </a:xfrm>
        </p:grpSpPr>
        <p:sp>
          <p:nvSpPr>
            <p:cNvPr id="64" name="Freeform 24"/>
            <p:cNvSpPr/>
            <p:nvPr/>
          </p:nvSpPr>
          <p:spPr>
            <a:xfrm>
              <a:off x="444600" y="3124080"/>
              <a:ext cx="1765080" cy="47016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609480" y="3200400"/>
              <a:ext cx="6477120" cy="105408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Rectangle 27"/>
          <p:cNvSpPr/>
          <p:nvPr/>
        </p:nvSpPr>
        <p:spPr>
          <a:xfrm>
            <a:off x="4495680" y="2743200"/>
            <a:ext cx="1752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(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60958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(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Polynomial by a Mo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440" y="26668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1371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819520" y="26668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8"/>
          <p:cNvGrpSpPr/>
          <p:nvPr/>
        </p:nvGrpSpPr>
        <p:grpSpPr>
          <a:xfrm>
            <a:off x="990720" y="2031840"/>
            <a:ext cx="2819160" cy="787680"/>
            <a:chOff x="990720" y="2031840"/>
            <a:chExt cx="2819160" cy="787680"/>
          </a:xfrm>
        </p:grpSpPr>
        <p:sp>
          <p:nvSpPr>
            <p:cNvPr id="73" name="Freeform 6"/>
            <p:cNvSpPr/>
            <p:nvPr/>
          </p:nvSpPr>
          <p:spPr>
            <a:xfrm>
              <a:off x="990720" y="2514600"/>
              <a:ext cx="457200" cy="304920"/>
            </a:xfrm>
            <a:prstGeom prst="pie">
              <a:avLst/>
            </a:prstGeom>
            <a:noFill/>
            <a:ln w="19080">
              <a:solidFill>
                <a:srgbClr val="00ff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066680" y="2031840"/>
              <a:ext cx="2743200" cy="635040"/>
            </a:xfrm>
            <a:prstGeom prst="pie">
              <a:avLst/>
            </a:prstGeom>
            <a:noFill/>
            <a:ln w="19080">
              <a:solidFill>
                <a:srgbClr val="00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90720" y="3124080"/>
            <a:ext cx="4572000" cy="1067040"/>
            <a:chOff x="990720" y="3124080"/>
            <a:chExt cx="4572000" cy="1067040"/>
          </a:xfrm>
        </p:grpSpPr>
        <p:sp>
          <p:nvSpPr>
            <p:cNvPr id="76" name="Freeform 9"/>
            <p:cNvSpPr/>
            <p:nvPr/>
          </p:nvSpPr>
          <p:spPr>
            <a:xfrm>
              <a:off x="990720" y="3124080"/>
              <a:ext cx="1371600" cy="53352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1600200" y="3200400"/>
              <a:ext cx="3962520" cy="99072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Rectangle 12"/>
          <p:cNvSpPr/>
          <p:nvPr/>
        </p:nvSpPr>
        <p:spPr>
          <a:xfrm>
            <a:off x="4343400" y="26668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2895480" y="45720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+ 6x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3:40:50Z</dcterms:created>
  <dc:creator>Kenny Kong</dc:creator>
  <dc:description/>
  <dc:language>en-US</dc:language>
  <cp:lastModifiedBy>SCSCHOOLS</cp:lastModifiedBy>
  <dcterms:modified xsi:type="dcterms:W3CDTF">2011-02-23T21:14:59Z</dcterms:modified>
  <cp:revision>66</cp:revision>
  <dc:subject>Multiplying Polynomials</dc:subject>
  <dc:title>Multiplying Polynomials</dc:title>
</cp:coreProperties>
</file>